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C35A-0A57-4F2A-B669-EC2C5E60BD8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йэт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171-AE95-44E5-BDE6-5163A25D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77C4-198F-4B67-BA50-B71EE6D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16E-09E3-4F90-9A14-BE8570B29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6FA8-38AE-4658-A1F6-AB37FAAB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0172-8110-43D2-BF3B-C5E5201E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49DC-8105-4BC7-A21E-3F154516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1E56-DBAD-46F2-8F38-7F937FA3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38AA-276D-468E-A122-50D11C55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D0FA-E1E6-4DFC-AE9F-CC9D7E6F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2AAF-016A-4D4F-ADFD-A6EBC01C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3711-E0D3-461F-B5AE-8CBFB57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516-43BD-48F4-ACBE-60919727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CFDC-BD3D-47F8-A4E2-53AB2FF6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4EE4-2010-48C7-AFA3-11FBE702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567C-50EB-4072-87A4-EDE0C88C2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78F93-1A08-4EA9-9C0E-0260906E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38E2-FFD2-4EFA-8FB5-D990AD7A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ECA-008E-440E-AE5D-B5BC0CA1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02E-CF0F-490C-B611-45AC13FB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D5B1-FD06-4C5B-8679-707348CE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498-FDCF-4A00-9982-6A59CB8D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4E8E-A1FA-4889-812A-3677D6A8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202-6E08-4724-A87B-FFDCC553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9CD-95DF-4F17-A857-BAFC2266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346E-2B30-4E97-A55A-A9722914F0C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C349-7B8F-48E4-B37A-04853E2EDA3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2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3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4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5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6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7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8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9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0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1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2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3" Type="http://schemas.openxmlformats.org/officeDocument/2006/relationships/hyperlink" Target="file:///&#1089;&#1091;&#1088;&#1091;&#1081;&#1072;&#1072;&#1095;&#1095;&#1099;%20&#1076;&#1100;&#1080;&#1101;%20&#1082;&#1101;&#1088;&#1075;&#1101;&#1085;&#1080;&#1085;%20&#1090;&#1091;h&#1091;&#1085;&#1072;&#1085;%20&#1073;&#1080;&#1083;&#1080;&#1101;&#1093;&#1093;&#1080;&#1085;%20&#1073;&#1072;5&#1072;&#1088;&#1072;&#1088;%20&#1073;&#1091;&#1086;&#1083;&#1083;&#1072;&#1093;&#1093;&#1099;&#1085;&#1072;,%20&#1084;&#1072;&#1085;&#1085;&#1072;%20&#1082;&#1080;&#1080;&#1088;.ppt" TargetMode="Externa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0;&#1084;&#1084;&#1072;%20&#1040;&#1095;&#1095;&#1099;&#1075;&#1099;&#1081;&#1099;&#1085;%20&#1090;&#1086;&#1088;&#1076;&#1086;-&#1091;&#1091;&#1100;&#1072;.ppt" TargetMode="External"/><Relationship Id="rId2" Type="http://schemas.openxmlformats.org/officeDocument/2006/relationships/hyperlink" Target="file:///&#1040;&#1084;&#1084;&#1072;%20&#1040;&#1095;&#1095;&#1099;&#1075;&#1099;&#1081;&#1099;&#1085;%20&#1090;&#1086;&#1088;&#1076;&#1086;-&#1091;&#1091;&#1100;&#1072;.ppt" TargetMode="External"/><Relationship Id="rId3" Type="http://schemas.openxmlformats.org/officeDocument/2006/relationships/hyperlink" Target="file:///&#1040;&#1084;&#1084;&#1072;%20&#1040;&#1095;&#1095;&#1099;&#1075;&#1099;&#1081;&#1099;&#1085;%20&#1090;&#1086;&#1088;&#1076;&#1086;-&#1091;&#1091;&#1100;&#1072;.ppt" TargetMode="External"/><Relationship Id="rId4" Type="http://schemas.openxmlformats.org/officeDocument/2006/relationships/hyperlink" Target="file:///&#1040;&#1084;&#1084;&#1072;%20&#1040;&#1095;&#1095;&#1099;&#1075;&#1099;&#1081;&#1099;&#1085;%20&#1090;&#1086;&#1088;&#1076;&#1086;-&#1091;&#1091;&#1100;&#1072;.ppt" TargetMode="External"/><Relationship Id="rId5" Type="http://schemas.openxmlformats.org/officeDocument/2006/relationships/hyperlink" Target="file:///&#1040;&#1084;&#1084;&#1072;%20&#1040;&#1095;&#1095;&#1099;&#1075;&#1099;&#1081;&#1099;&#1085;%20&#1086;&#1083;&#1086;5&#1086;.doc" TargetMode="External"/><Relationship Id="rId6" Type="http://schemas.openxmlformats.org/officeDocument/2006/relationships/hyperlink" Target="file:///&#1040;&#1084;&#1084;&#1072;%20&#1040;&#1095;&#1095;&#1099;&#1075;&#1099;&#1081;&#1099;&#1085;%20&#1086;&#1083;&#1086;5&#1086;.doc" TargetMode="External"/><Relationship Id="rId7" Type="http://schemas.openxmlformats.org/officeDocument/2006/relationships/hyperlink" Target="file:///&#1040;&#1084;&#1084;&#1072;%20&#1040;&#1095;&#1095;&#1099;&#1075;&#1099;&#1081;&#1099;&#1085;%20&#1086;&#1083;&#1086;5&#1086;.doc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7;&#1091;&#1088;&#1091;&#1081;&#1072;&#1072;&#1095;&#1095;&#1099;%20&#1086;&#1083;&#1086;5&#1091;&#1085;%20&#1082;&#1101;&#1087;&#1089;&#1101;&#1101;&#1085;&#1101;.ppt" TargetMode="External"/><Relationship Id="rId2" Type="http://schemas.openxmlformats.org/officeDocument/2006/relationships/hyperlink" Target="file:///&#1057;&#1091;&#1088;&#1091;&#1081;&#1072;&#1072;&#1095;&#1095;&#1099;%20&#1086;&#1083;&#1086;5&#1091;&#1085;%20&#1082;&#1101;&#1087;&#1089;&#1101;&#1101;&#1085;&#1101;.ppt" TargetMode="External"/><Relationship Id="rId3" Type="http://schemas.openxmlformats.org/officeDocument/2006/relationships/hyperlink" Target="file:///&#1057;&#1091;&#1088;&#1091;&#1081;&#1072;&#1072;&#1095;&#1095;&#1099;%20&#1086;&#1083;&#1086;5&#1091;&#1085;%20&#1082;&#1101;&#1087;&#1089;&#1101;&#1101;&#1085;&#1101;.ppt" TargetMode="External"/><Relationship Id="rId4" Type="http://schemas.openxmlformats.org/officeDocument/2006/relationships/hyperlink" Target="file:///&#1040;&#1084;&#1084;&#1072;%20&#1040;&#1095;&#1095;&#1099;&#1075;&#1099;&#1081;&#1099;&#1085;%20&#1086;&#1083;&#1086;5&#1086;.doc" TargetMode="External"/><Relationship Id="rId5" Type="http://schemas.openxmlformats.org/officeDocument/2006/relationships/hyperlink" Target="file:///&#1040;&#1084;&#1084;&#1072;%20&#1040;&#1095;&#1095;&#1099;&#1075;&#1099;&#1081;&#1099;&#1085;%20&#1086;&#1083;&#1086;5&#1086;.doc" TargetMode="External"/><Relationship Id="rId6" Type="http://schemas.openxmlformats.org/officeDocument/2006/relationships/hyperlink" Target="file:///&#1040;&#1084;&#1084;&#1072;%20&#1040;&#1095;&#1095;&#1099;&#1075;&#1099;&#1081;&#1099;&#1085;%20&#1086;&#1083;&#1086;5&#1086;.doc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8;&#1081;&#1101;%20&#1093;&#1086;h&#1086;&#1086;&#1085;.doc" TargetMode="External"/><Relationship Id="rId2" Type="http://schemas.openxmlformats.org/officeDocument/2006/relationships/hyperlink" Target="file:///&#1048;&#1081;&#1101;%20&#1093;&#1086;h&#1086;&#1086;&#1085;.doc" TargetMode="External"/><Relationship Id="rId3" Type="http://schemas.openxmlformats.org/officeDocument/2006/relationships/hyperlink" Target="file:///&#1048;&#1081;&#1101;%20&#1093;&#1086;h&#1086;&#1086;&#1085;.doc" TargetMode="External"/><Relationship Id="rId4" Type="http://schemas.openxmlformats.org/officeDocument/2006/relationships/hyperlink" Target="file:///&#1048;&#1081;&#1101;%20&#1093;&#1086;h&#1086;&#1086;&#1085;.doc" TargetMode="External"/><Relationship Id="rId5" Type="http://schemas.openxmlformats.org/officeDocument/2006/relationships/hyperlink" Target="file:///&#1048;&#1081;&#1101;%20&#1093;&#1086;h&#1086;&#1086;&#1085;.doc" TargetMode="External"/><Relationship Id="rId6" Type="http://schemas.openxmlformats.org/officeDocument/2006/relationships/hyperlink" Target="file:///&#1057;&#1091;&#1088;&#1091;&#1081;&#1072;&#1072;&#1095;&#1095;&#1099;%20&#1087;&#1086;&#1101;&#1090;&#1080;&#1095;&#1077;&#1089;&#1082;&#1072;&#1081;%20&#1072;&#1081;&#1099;&#1084;&#1085;&#1100;&#1099;&#1083;&#1072;&#1088;&#1072;.ppt" TargetMode="External"/><Relationship Id="rId7" Type="http://schemas.openxmlformats.org/officeDocument/2006/relationships/hyperlink" Target="file:///&#1057;&#1091;&#1088;&#1091;&#1081;&#1072;&#1072;&#1095;&#1095;&#1099;%20&#1087;&#1086;&#1101;&#1090;&#1080;&#1095;&#1077;&#1089;&#1082;&#1072;&#1081;%20&#1072;&#1081;&#1099;&#1084;&#1085;&#1100;&#1099;&#1083;&#1072;&#1088;&#1072;.ppt" TargetMode="External"/><Relationship Id="rId8" Type="http://schemas.openxmlformats.org/officeDocument/2006/relationships/hyperlink" Target="file:///&#1057;&#1091;&#1088;&#1091;&#1081;&#1072;&#1072;&#1095;&#1095;&#1099;%20&#1087;&#1086;&#1101;&#1090;&#1080;&#1095;&#1077;&#1089;&#1082;&#1072;&#1081;%20&#1072;&#1081;&#1099;&#1084;&#1085;&#1100;&#1099;&#1083;&#1072;&#1088;&#1072;.ppt" TargetMode="External"/><Relationship Id="rId9" Type="http://schemas.openxmlformats.org/officeDocument/2006/relationships/hyperlink" Target="file:///&#1057;&#1091;&#1088;&#1091;&#1081;&#1072;&#1072;&#1095;&#1095;&#1099;%20&#1087;&#1086;&#1101;&#1090;&#1080;&#1095;&#1077;&#1089;&#1082;&#1072;&#1081;%20&#1072;&#1081;&#1099;&#1084;&#1085;&#1100;&#1099;&#1083;&#1072;&#1088;&#1072;.ppt" TargetMode="External"/><Relationship Id="rId10" Type="http://schemas.openxmlformats.org/officeDocument/2006/relationships/hyperlink" Target="file:///&#1087;&#1086;&#1101;&#1090;&#1080;&#1095;&#1077;&#1089;&#1082;&#1072;&#1081;%20&#1072;&#1081;&#1099;&#1084;&#1085;&#1100;&#1099;&#1083;&#1072;&#1088;&#1072;.doc" TargetMode="External"/><Relationship Id="rId11" Type="http://schemas.openxmlformats.org/officeDocument/2006/relationships/hyperlink" Target="file:///&#1055;&#1088;&#1086;&#1079;&#1072;&#1080;&#1095;&#1077;&#1089;&#1082;&#1072;&#1081;%20&#1072;&#1081;&#1099;&#1084;&#1085;&#1100;&#1099;&#1083;&#1072;&#1088;&#1072;.ppt" TargetMode="External"/><Relationship Id="rId12" Type="http://schemas.openxmlformats.org/officeDocument/2006/relationships/hyperlink" Target="file:///&#1055;&#1088;&#1086;&#1079;&#1072;&#1080;&#1095;&#1077;&#1089;&#1082;&#1072;&#1081;%20&#1072;&#1081;&#1099;&#1084;&#1085;&#1100;&#1099;&#1083;&#1072;&#1088;&#1072;.ppt" TargetMode="External"/><Relationship Id="rId13" Type="http://schemas.openxmlformats.org/officeDocument/2006/relationships/hyperlink" Target="file:///&#1055;&#1088;&#1086;&#1079;&#1072;&#1080;&#1095;&#1077;&#1089;&#1082;&#1072;&#1081;%20&#1072;&#1081;&#1099;&#1084;&#1085;&#1100;&#1099;&#1083;&#1072;&#1088;&#1072;.ppt" TargetMode="External"/><Relationship Id="rId14" Type="http://schemas.openxmlformats.org/officeDocument/2006/relationships/hyperlink" Target="file:///&#1055;&#1088;&#1086;&#1079;&#1072;&#1080;&#1095;&#1077;&#1089;&#1082;&#1072;&#1081;%20&#1072;&#1081;&#1099;&#1084;&#1085;&#1100;&#1099;&#1083;&#1072;&#1088;&#1072;.ppt" TargetMode="External"/><Relationship Id="rId15" Type="http://schemas.openxmlformats.org/officeDocument/2006/relationships/hyperlink" Target="file:///&#1087;&#1088;&#1086;&#1079;&#1072;&#1080;&#1095;&#1077;&#1089;&#1082;&#1072;&#1081;%20&#1072;&#1081;&#1099;&#1084;&#1085;&#1100;&#1099;&#1083;&#1072;&#1088;&#1072;.doc" TargetMode="External"/><Relationship Id="rId16" Type="http://schemas.openxmlformats.org/officeDocument/2006/relationships/hyperlink" Target="file:///&#1076;&#1088;&#1072;&#1084;&#1072;&#1090;&#1080;&#1095;&#1077;&#1089;&#1082;&#1072;&#1081;%20&#1072;&#1081;&#1099;&#1084;&#1085;&#1100;&#1099;&#1083;&#1072;&#1088;&#1072;.doc" TargetMode="External"/><Relationship Id="rId17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18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19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0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1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2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3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4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5" Type="http://schemas.openxmlformats.org/officeDocument/2006/relationships/hyperlink" Target="file:///&#1057;&#1072;&#1072;&#1089;&#1082;&#1099;%20&#1082;&#1101;&#1084;%20&#1088;&#1086;&#1084;&#1072;&#1085;%201%20&#1088;&#1077;&#1076;&#1072;&#1082;&#1094;&#1080;&#1103;&#1090;&#1072;.ppt" TargetMode="External"/><Relationship Id="rId26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27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28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29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0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1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2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3" Type="http://schemas.openxmlformats.org/officeDocument/2006/relationships/hyperlink" Target="file:///&#1057;&#1072;&#1072;&#1089;&#1082;&#1099;%20&#1082;&#1101;&#1084;%20&#1088;&#1086;&#1084;&#1072;&#1085;&#1099;&#1085;%202%20&#1088;&#1077;&#1076;&#1072;&#1082;&#1094;&#1080;&#1103;&#1090;&#1072;.ppt" TargetMode="External"/><Relationship Id="rId34" Type="http://schemas.openxmlformats.org/officeDocument/2006/relationships/hyperlink" Target="file:///&#1040;.&#1040;.%20&#1057;&#1072;&#1072;&#1089;&#1082;&#1099;%20&#1082;&#1101;&#1084;%20&#1088;&#1086;&#1084;&#1072;&#1085;&#1099;&#1085;%202%20&#1088;&#1077;&#1076;&#1072;&#1082;&#1094;&#1080;&#1103;&#1090;&#1072;%20&#1082;&#1088;&#1080;&#1090;&#1080;&#1082;&#1072;5&#1072;.doc" TargetMode="External"/><Relationship Id="rId35" Type="http://schemas.openxmlformats.org/officeDocument/2006/relationships/hyperlink" Target="file:///&#1061;&#1088;&#1086;&#1085;&#1086;&#1083;&#1086;&#1075;&#1080;&#1103;%20&#1080;&#1079;&#1076;&#1072;&#1085;&#1080;&#1081;%20&#1088;&#1086;&#1084;&#1072;&#1085;&#1072;%20&#1042;&#1077;&#1089;&#1077;&#1085;&#1085;&#1103;&#1103;%20&#1087;&#1086;&#1088;&#1072;.doc" TargetMode="External"/><Relationship Id="rId36" Type="http://schemas.openxmlformats.org/officeDocument/2006/relationships/hyperlink" Target="file:///&#1058;&#1099;&#1083;&#1073;&#1072;&#1072;&#1089;&#1090;&#1072;&#1088;&#1072;.ppt" TargetMode="External"/><Relationship Id="rId37" Type="http://schemas.openxmlformats.org/officeDocument/2006/relationships/hyperlink" Target="file:///&#1058;&#1099;&#1083;&#1073;&#1072;&#1072;&#1089;&#1090;&#1072;&#1088;&#1072;.ppt" TargetMode="External"/><Relationship Id="rId38" Type="http://schemas.openxmlformats.org/officeDocument/2006/relationships/hyperlink" Target="file:///&#1058;&#1099;&#1083;&#1073;&#1072;&#1072;&#1089;&#1090;&#1072;&#1088;&#1072;.doc" TargetMode="External"/><Relationship Id="rId39" Type="http://schemas.openxmlformats.org/officeDocument/2006/relationships/hyperlink" Target="file:///&#1040;&#1093;&#1090;&#1099;&#1099;&#1083;&#1072;&#1088;&#1072;.ppt" TargetMode="External"/><Relationship Id="rId40" Type="http://schemas.openxmlformats.org/officeDocument/2006/relationships/hyperlink" Target="file:///&#1040;&#1093;&#1090;&#1099;&#1099;&#1083;&#1072;&#1088;&#1072;.doc" TargetMode="External"/><Relationship Id="rId41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2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3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4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5" Type="http://schemas.openxmlformats.org/officeDocument/2006/relationships/hyperlink" Target="file:///15%20&#1083;&#1077;&#1082;&#1094;&#1080;&#1103;%20-%20&#1052;&#1086;&#1088;&#1076;&#1080;&#1085;&#1086;&#1074;%20&#1074;%20&#1075;&#1072;&#1079;&#1077;&#1090;&#1077;%20&#1041;&#1101;&#1083;&#1101;&#1084;%20&#1073;&#1091;&#1086;&#1083;/&#1040;&#1084;&#1084;&#1072;%20&#1040;&#1095;&#1095;&#1099;&#1075;&#1099;&#1081;&#1072;%20&#171;&#1041;&#1101;&#1083;&#1101;&#1084;%20&#1073;&#1091;&#1086;&#1083;&#1075;&#1072;&#187;.ppt" TargetMode="External"/><Relationship Id="rId4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solidFill>
            <a:srgbClr val="ccccff"/>
          </a:solidFill>
          <a:ln w="9360">
            <a:solidFill>
              <a:srgbClr val="cc99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мма Аччыгыйын оло5о,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айар улэтэ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00360" y="2781360"/>
            <a:ext cx="4012920" cy="1822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(06.01.1906-14.11.1994)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суруйааччы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дьиэ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кэргэни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туhуна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билиэххи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 ба5арар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буоллаххына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, манна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киир.ppt</a:t>
            </a:r>
            <a:endParaRPr b="0" lang="en-US" sz="1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4"/>
          <a:stretch/>
        </p:blipFill>
        <p:spPr>
          <a:xfrm>
            <a:off x="250920" y="1844640"/>
            <a:ext cx="3813120" cy="486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0" y="0"/>
          <a:ext cx="182520" cy="37767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7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800" y="3776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13240" y="822960"/>
            <a:ext cx="7372440" cy="797040"/>
          </a:xfrm>
          <a:prstGeom prst="rect">
            <a:avLst/>
          </a:prstGeom>
          <a:solidFill>
            <a:srgbClr val="ccff99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уруйааччы оло5ун кэпсээнэ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417080" cy="372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1906 с. тохсунньу 6 кунугэр Боотурускай улуус Уус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Амма нэ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илиэгэр Содуоччуйэ уонна Дьогуордээн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Мординовтарга бастакы о5онон торообутэ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Амма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Аччыгыйы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тордо-ууьа.ppt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ff"/>
                </a:solidFill>
                <a:latin typeface="Times New Roman"/>
              </a:rPr>
              <a:t>       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Амма 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Аччыгыйын</a:t>
            </a:r>
            <a:r>
              <a:rPr b="0" lang="ru-RU" sz="12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 оло5о.doc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8604360" y="6597720"/>
            <a:ext cx="285480" cy="260280"/>
          </a:xfrm>
          <a:custGeom>
            <a:avLst/>
            <a:gdLst>
              <a:gd name="textAreaLeft" fmla="*/ 16560 w 285480"/>
              <a:gd name="textAreaRight" fmla="*/ 268920 w 2854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688" h="21600">
                <a:moveTo>
                  <a:pt x="0" y="0"/>
                </a:moveTo>
                <a:lnTo>
                  <a:pt x="23688" y="0"/>
                </a:lnTo>
                <a:lnTo>
                  <a:pt x="23688" y="21600"/>
                </a:lnTo>
                <a:lnTo>
                  <a:pt x="0" y="21600"/>
                </a:lnTo>
                <a:close/>
              </a:path>
              <a:path fill="lightenLess" w="23688" h="21600">
                <a:moveTo>
                  <a:pt x="0" y="0"/>
                </a:moveTo>
                <a:lnTo>
                  <a:pt x="23688" y="0"/>
                </a:lnTo>
                <a:lnTo>
                  <a:pt x="22288" y="1400"/>
                </a:lnTo>
                <a:lnTo>
                  <a:pt x="1400" y="1400"/>
                </a:lnTo>
                <a:close/>
              </a:path>
              <a:path fill="darken" w="23688" h="21600">
                <a:moveTo>
                  <a:pt x="23688" y="0"/>
                </a:moveTo>
                <a:lnTo>
                  <a:pt x="23688" y="21600"/>
                </a:lnTo>
                <a:lnTo>
                  <a:pt x="22288" y="20200"/>
                </a:lnTo>
                <a:lnTo>
                  <a:pt x="22288" y="1400"/>
                </a:lnTo>
                <a:close/>
              </a:path>
              <a:path fill="darkenLess" w="23688" h="21600">
                <a:moveTo>
                  <a:pt x="23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8" y="20200"/>
                </a:lnTo>
                <a:close/>
              </a:path>
              <a:path fill="lighten" w="23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88" h="21600">
                <a:moveTo>
                  <a:pt x="4838" y="10800"/>
                </a:moveTo>
                <a:lnTo>
                  <a:pt x="18851" y="3794"/>
                </a:lnTo>
                <a:lnTo>
                  <a:pt x="18851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solidFill>
            <a:srgbClr val="ffcccc"/>
          </a:solidFill>
          <a:ln w="9360">
            <a:solidFill>
              <a:srgbClr val="990099"/>
            </a:solidFill>
            <a:miter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мма Аччыгыйын оло5ун кэпсээнэ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Суруйааччы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оло5ун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кэпсээнэ.ppt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Амма 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Аччыгыйын</a:t>
            </a:r>
            <a:r>
              <a:rPr b="0" lang="ru-RU" sz="14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 оло5о.doc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previousslide"/>
          </p:cNvPr>
          <p:cNvSpPr/>
          <p:nvPr/>
        </p:nvSpPr>
        <p:spPr>
          <a:xfrm>
            <a:off x="8604360" y="6597720"/>
            <a:ext cx="285480" cy="260280"/>
          </a:xfrm>
          <a:custGeom>
            <a:avLst/>
            <a:gdLst>
              <a:gd name="textAreaLeft" fmla="*/ 16560 w 285480"/>
              <a:gd name="textAreaRight" fmla="*/ 268920 w 2854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688" h="21600">
                <a:moveTo>
                  <a:pt x="0" y="0"/>
                </a:moveTo>
                <a:lnTo>
                  <a:pt x="23688" y="0"/>
                </a:lnTo>
                <a:lnTo>
                  <a:pt x="23688" y="21600"/>
                </a:lnTo>
                <a:lnTo>
                  <a:pt x="0" y="21600"/>
                </a:lnTo>
                <a:close/>
              </a:path>
              <a:path fill="lightenLess" w="23688" h="21600">
                <a:moveTo>
                  <a:pt x="0" y="0"/>
                </a:moveTo>
                <a:lnTo>
                  <a:pt x="23688" y="0"/>
                </a:lnTo>
                <a:lnTo>
                  <a:pt x="22288" y="1400"/>
                </a:lnTo>
                <a:lnTo>
                  <a:pt x="1400" y="1400"/>
                </a:lnTo>
                <a:close/>
              </a:path>
              <a:path fill="darken" w="23688" h="21600">
                <a:moveTo>
                  <a:pt x="23688" y="0"/>
                </a:moveTo>
                <a:lnTo>
                  <a:pt x="23688" y="21600"/>
                </a:lnTo>
                <a:lnTo>
                  <a:pt x="22288" y="20200"/>
                </a:lnTo>
                <a:lnTo>
                  <a:pt x="22288" y="1400"/>
                </a:lnTo>
                <a:close/>
              </a:path>
              <a:path fill="darkenLess" w="23688" h="21600">
                <a:moveTo>
                  <a:pt x="23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8" y="20200"/>
                </a:lnTo>
                <a:close/>
              </a:path>
              <a:path fill="lighten" w="23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88" h="21600">
                <a:moveTo>
                  <a:pt x="4838" y="10800"/>
                </a:moveTo>
                <a:lnTo>
                  <a:pt x="18851" y="3794"/>
                </a:lnTo>
                <a:lnTo>
                  <a:pt x="18851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793440" y="365040"/>
            <a:ext cx="7861320" cy="439920"/>
          </a:xfrm>
          <a:prstGeom prst="rect">
            <a:avLst/>
          </a:prstGeom>
          <a:solidFill>
            <a:srgbClr val="ccff99"/>
          </a:solidFill>
          <a:ln w="9360">
            <a:solidFill>
              <a:srgbClr val="cc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мма Аччыгыйын айар улэтэ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907560"/>
            <a:ext cx="7920000" cy="517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Times New Roman"/>
              </a:rPr>
              <a:t>Суруйааччы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аан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бастакы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айымньы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66"/>
                </a:solidFill>
                <a:latin typeface="Times New Roman"/>
              </a:rPr>
              <a:t>Суруйааччы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поэтическай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8"/>
              </a:rPr>
              <a:t>айымньылара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9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10"/>
              </a:rPr>
              <a:t>подробнее</a:t>
            </a:r>
            <a:r>
              <a:rPr b="0" lang="ru-RU" sz="1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ff9966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1"/>
              </a:rPr>
              <a:t>Прозаическай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2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3"/>
              </a:rPr>
              <a:t>айымньылара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4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15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Драматическай айымньылар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16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7"/>
              </a:rPr>
              <a:t>«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8"/>
              </a:rPr>
              <a:t>Сааскы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0"/>
              </a:rPr>
              <a:t>кэм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1"/>
              </a:rPr>
              <a:t>» роман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2"/>
              </a:rPr>
              <a:t>бастакы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3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4"/>
              </a:rPr>
              <a:t>редакцият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25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6"/>
              </a:rPr>
              <a:t>«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7"/>
              </a:rPr>
              <a:t>Сааскы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8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29"/>
              </a:rPr>
              <a:t>кэм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0"/>
              </a:rPr>
              <a:t>» роман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1"/>
              </a:rPr>
              <a:t>иккис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2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3"/>
              </a:rPr>
              <a:t>редакцията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34"/>
              </a:rPr>
              <a:t>подробнее</a:t>
            </a:r>
            <a:r>
              <a:rPr b="0" lang="ru-RU" sz="1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35"/>
              </a:rPr>
              <a:t>хронологи изданий романа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6"/>
              </a:rPr>
              <a:t>Тылбаастара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7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38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39"/>
              </a:rPr>
              <a:t>Ахтыылара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 u="sng">
                <a:solidFill>
                  <a:srgbClr val="003366"/>
                </a:solidFill>
                <a:uFillTx/>
                <a:latin typeface="Times New Roman"/>
                <a:hlinkClick r:id="rId40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1"/>
              </a:rPr>
              <a:t>Мординов в газете «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2"/>
              </a:rPr>
              <a:t>Бэлэм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3"/>
              </a:rPr>
              <a:t> 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4"/>
              </a:rPr>
              <a:t>буол</a:t>
            </a:r>
            <a:r>
              <a:rPr b="0" lang="ru-RU" sz="1800" spc="-1" strike="noStrike" u="sng">
                <a:solidFill>
                  <a:srgbClr val="003366"/>
                </a:solidFill>
                <a:uFillTx/>
                <a:latin typeface="Times New Roman"/>
                <a:hlinkClick r:id="rId45"/>
              </a:rPr>
              <a:t>»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8000"/>
                </a:solidFill>
                <a:latin typeface="Times New Roman"/>
              </a:rPr>
              <a:t>подробнее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3794" y="4196"/>
                </a:moveTo>
                <a:lnTo>
                  <a:pt x="17806" y="11202"/>
                </a:lnTo>
                <a:lnTo>
                  <a:pt x="3794" y="18209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604360" y="6597720"/>
            <a:ext cx="285480" cy="260280"/>
          </a:xfrm>
          <a:custGeom>
            <a:avLst/>
            <a:gdLst>
              <a:gd name="textAreaLeft" fmla="*/ 16560 w 285480"/>
              <a:gd name="textAreaRight" fmla="*/ 268920 w 285480"/>
              <a:gd name="textAreaTop" fmla="*/ 16560 h 260280"/>
              <a:gd name="textAreaBottom" fmla="*/ 243720 h 260280"/>
            </a:gdLst>
            <a:ahLst/>
            <a:rect l="textAreaLeft" t="textAreaTop" r="textAreaRight" b="textAreaBottom"/>
            <a:pathLst>
              <a:path w="23688" h="21600">
                <a:moveTo>
                  <a:pt x="0" y="0"/>
                </a:moveTo>
                <a:lnTo>
                  <a:pt x="23688" y="0"/>
                </a:lnTo>
                <a:lnTo>
                  <a:pt x="23688" y="21600"/>
                </a:lnTo>
                <a:lnTo>
                  <a:pt x="0" y="21600"/>
                </a:lnTo>
                <a:close/>
              </a:path>
              <a:path fill="lightenLess" w="23688" h="21600">
                <a:moveTo>
                  <a:pt x="0" y="0"/>
                </a:moveTo>
                <a:lnTo>
                  <a:pt x="23688" y="0"/>
                </a:lnTo>
                <a:lnTo>
                  <a:pt x="22288" y="1400"/>
                </a:lnTo>
                <a:lnTo>
                  <a:pt x="1400" y="1400"/>
                </a:lnTo>
                <a:close/>
              </a:path>
              <a:path fill="darken" w="23688" h="21600">
                <a:moveTo>
                  <a:pt x="23688" y="0"/>
                </a:moveTo>
                <a:lnTo>
                  <a:pt x="23688" y="21600"/>
                </a:lnTo>
                <a:lnTo>
                  <a:pt x="22288" y="20200"/>
                </a:lnTo>
                <a:lnTo>
                  <a:pt x="22288" y="1400"/>
                </a:lnTo>
                <a:close/>
              </a:path>
              <a:path fill="darkenLess" w="23688" h="21600">
                <a:moveTo>
                  <a:pt x="23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8" y="20200"/>
                </a:lnTo>
                <a:close/>
              </a:path>
              <a:path fill="lighten" w="23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88" h="21600">
                <a:moveTo>
                  <a:pt x="4838" y="10800"/>
                </a:moveTo>
                <a:lnTo>
                  <a:pt x="18851" y="3794"/>
                </a:lnTo>
                <a:lnTo>
                  <a:pt x="18851" y="17806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04360" y="837000"/>
            <a:ext cx="7056000" cy="99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</a:rPr>
              <a:t>Спасибо за внимание!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solidFill>
            <a:srgbClr val="ccff99"/>
          </a:solidFill>
          <a:ln w="9360">
            <a:solidFill>
              <a:srgbClr val="99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Times New Roman"/>
              </a:rPr>
              <a:t>Ефремова Саргылана Ивановна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кандидат филологических наук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990099"/>
                </a:solidFill>
                <a:latin typeface="Times New Roman"/>
              </a:rPr>
              <a:t>старший преподаватель кафедры якутской литературы факультета якутской филологии и культуры Якутского государственного университета им. М.К.Аммосова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03280" y="2421000"/>
            <a:ext cx="2543400" cy="37242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8893080" y="6597720"/>
            <a:ext cx="250920" cy="260280"/>
          </a:xfrm>
          <a:custGeom>
            <a:avLst/>
            <a:gdLst>
              <a:gd name="textAreaLeft" fmla="*/ 16200 w 250920"/>
              <a:gd name="textAreaRight" fmla="*/ 234720 w 250920"/>
              <a:gd name="textAreaTop" fmla="*/ 16200 h 260280"/>
              <a:gd name="textAreaBottom" fmla="*/ 244080 h 260280"/>
            </a:gdLst>
            <a:ahLst/>
            <a:rect l="textAreaLeft" t="textAreaTop" r="textAreaRight" b="textAreaBottom"/>
            <a:pathLst>
              <a:path w="21600" h="22405">
                <a:moveTo>
                  <a:pt x="0" y="0"/>
                </a:moveTo>
                <a:lnTo>
                  <a:pt x="21600" y="0"/>
                </a:lnTo>
                <a:lnTo>
                  <a:pt x="21600" y="22405"/>
                </a:lnTo>
                <a:lnTo>
                  <a:pt x="0" y="22405"/>
                </a:lnTo>
                <a:close/>
              </a:path>
              <a:path fill="lightenLess" w="21600" h="224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05">
                <a:moveTo>
                  <a:pt x="21600" y="0"/>
                </a:moveTo>
                <a:lnTo>
                  <a:pt x="21600" y="22405"/>
                </a:lnTo>
                <a:lnTo>
                  <a:pt x="20200" y="21005"/>
                </a:lnTo>
                <a:lnTo>
                  <a:pt x="20200" y="1400"/>
                </a:lnTo>
                <a:close/>
              </a:path>
              <a:path fill="darkenLess" w="21600" h="22405">
                <a:moveTo>
                  <a:pt x="21600" y="22405"/>
                </a:moveTo>
                <a:lnTo>
                  <a:pt x="0" y="22405"/>
                </a:lnTo>
                <a:lnTo>
                  <a:pt x="1400" y="21005"/>
                </a:lnTo>
                <a:lnTo>
                  <a:pt x="20200" y="21005"/>
                </a:lnTo>
                <a:close/>
              </a:path>
              <a:path fill="lighten" w="21600" h="22405">
                <a:moveTo>
                  <a:pt x="0" y="224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05"/>
                </a:lnTo>
                <a:close/>
              </a:path>
              <a:path fill="darken" w="21600" h="22405">
                <a:moveTo>
                  <a:pt x="10800" y="4239"/>
                </a:moveTo>
                <a:lnTo>
                  <a:pt x="13376" y="6850"/>
                </a:ln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lnTo>
                  <a:pt x="17763" y="11202"/>
                </a:lnTo>
                <a:lnTo>
                  <a:pt x="16109" y="11202"/>
                </a:lnTo>
                <a:lnTo>
                  <a:pt x="16109" y="18392"/>
                </a:lnTo>
                <a:lnTo>
                  <a:pt x="5491" y="18392"/>
                </a:lnTo>
                <a:lnTo>
                  <a:pt x="5491" y="11202"/>
                </a:lnTo>
                <a:lnTo>
                  <a:pt x="3837" y="11202"/>
                </a:lnTo>
                <a:close/>
              </a:path>
              <a:path fill="darkenLess" w="21600" h="22405">
                <a:moveTo>
                  <a:pt x="13376" y="6850"/>
                </a:moveTo>
                <a:lnTo>
                  <a:pt x="13376" y="5110"/>
                </a:lnTo>
                <a:lnTo>
                  <a:pt x="15152" y="5110"/>
                </a:lnTo>
                <a:lnTo>
                  <a:pt x="15152" y="8626"/>
                </a:lnTo>
                <a:close/>
              </a:path>
              <a:path fill="darkenLess" w="21600" h="22405">
                <a:moveTo>
                  <a:pt x="9877" y="14701"/>
                </a:moveTo>
                <a:lnTo>
                  <a:pt x="11723" y="14701"/>
                </a:lnTo>
                <a:lnTo>
                  <a:pt x="11723" y="18392"/>
                </a:lnTo>
                <a:lnTo>
                  <a:pt x="16109" y="18392"/>
                </a:lnTo>
                <a:lnTo>
                  <a:pt x="16109" y="11202"/>
                </a:lnTo>
                <a:lnTo>
                  <a:pt x="5491" y="11202"/>
                </a:lnTo>
                <a:lnTo>
                  <a:pt x="5491" y="18392"/>
                </a:lnTo>
                <a:lnTo>
                  <a:pt x="9877" y="18392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1:32:17Z</dcterms:created>
  <dc:creator>User</dc:creator>
  <dc:description/>
  <dc:language>en-US</dc:language>
  <cp:lastModifiedBy>User</cp:lastModifiedBy>
  <dcterms:modified xsi:type="dcterms:W3CDTF">2008-04-06T11:44:12Z</dcterms:modified>
  <cp:revision>26</cp:revision>
  <dc:subject/>
  <dc:title>Амма Аччыгыйын оло5о, айар улэтэ</dc:title>
</cp:coreProperties>
</file>